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8DE8-7BCE-484B-82E9-F37DDA55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62F-7A11-48A3-9BAF-A0EADC27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3325F-37AF-4B15-8963-A50F8FF0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B8E9E-0042-4315-9761-E9013090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4657C-6A12-49FD-A688-25A9E49C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59AFA-BEE1-420F-80A9-1022106B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94B2D-FA0E-4039-B354-C68A2561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75D15-B055-453B-A8C6-BC2BC03E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E8A8A-5D1D-4ADB-AB25-0D25263D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A4A2E-AA33-4314-B327-8986532D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09E61-9425-4DD1-9A43-BB5201BD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26BA6-4133-42CA-AFB5-7B23D098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452-0AD1-468F-98CD-A1937E3F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5AF6C-D0C0-45B9-96C8-AEDF363A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BEA22-0375-4711-8054-5C2A53E8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901B5-745A-49C4-9790-DDC54A23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782BF-E7E6-4199-B54D-036BC953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2DFE7-1EF9-41BF-B9B6-A7770DA9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F97AF-5B84-422D-8120-BD2869E1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6927D-F3F1-4760-A65D-D0AEEEEE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90791-AAFB-4C63-B1CE-0B47527E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A5CE5-7E3F-4C05-B725-DC2896A2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3E75D-C93B-40BB-B338-28C375D9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9BC-985F-41D7-B613-5F3ECF3B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C8498-C3C5-4480-8FE2-BD9528A1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1C39-FC59-4BC9-9A29-D024E615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8316-A148-4E87-8C76-70CABCF2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8158-DE82-43B9-870F-472BCFEB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AFE2-CB7A-401C-A582-9220FD83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2D47-D189-4E84-9AB8-DAF49E49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BEAA-D9B1-4A8D-A7CB-72C17A04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0AE5-05FC-415B-A447-E660C3E2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E92E-0B43-4818-9B1D-623E397C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7064-2AB6-4B8C-A497-621D0E69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ED05-1FF4-400D-AF0B-9EF1ABB9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A94E-F913-4303-909E-9F9133C3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4443-2818-4536-96F2-821F69C0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22BE-4540-421F-9B2C-C73B94A4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FC9F5-7AE1-4062-AB26-628EA956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D3BA2-75EC-4DD6-8773-77A88AAB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BAD4E-909D-4571-B4A6-DF597F9D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AD139-10B6-45EA-AE46-755CFAD5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F808C-6EF4-48E1-85C2-3BB42081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67E-76C6-40E5-9C84-4D7908CB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0B23-F9F2-46A9-9277-DDF8F98B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24C8B-98FA-4689-A864-90E16870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B6496-2402-4125-81F0-48D2A5AE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AEA1F-499F-456B-A7CF-658A1010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A889-04F4-4889-B44E-BDC94D12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C7A12-9FDB-4EF6-8B2F-E49F00F1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8C3DA-41FB-4239-952E-98FC391D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73C33-AD53-462B-939A-669EE3A7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C71EC-9619-4879-AD17-AF7C36BE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4B8F9-C90E-46A0-8CD0-9DB0FA34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848-B0D6-417F-A6E2-A725C66E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C510F-EB81-4EEA-A438-301B3996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475D4-46AA-4C30-9947-EB64AB22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E0529-4870-48C8-9B96-CD0CEF40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E7A99-F178-472D-97FE-9DE57977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280F3-3672-444B-ACCD-586BDB2F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233C8-69D2-4302-BEE3-80272EAC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866DB-0DA0-4C41-AF01-AB2B043D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72198-F11E-41A8-B231-153BABC5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D98FC-8A27-468E-A0CF-30C5CC36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0AE1E-6648-41AF-98BC-00DF7329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CCA-71E9-4B49-80B6-35983B6A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16D13-5B1D-4128-B29B-7EA5564C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9D8F8-7939-42B8-B3B6-19410900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AC5ED-146A-43CE-95FA-57E1EF7B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9A35A-7F1E-474B-8DFB-D071E2BB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DB5F1-5863-4A9E-8E90-2145AAD9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4BA66-179E-423F-B5B9-0DE3B4DD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6AD59-0C7E-4ECE-AEB6-FF1738D5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BAD74-B915-4C1A-8041-0468F8B9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C8029-ED66-4EE4-BE5A-CCA003A3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BF8C1-9DD9-46CF-8B82-53518934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FA5-D6D5-4040-BBFD-A8308714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BC674-E2A3-4448-A76A-CD1D221C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91CE7-9B2F-4021-8E22-2FEF6C88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97FED-8F51-4E47-8D1D-385FD31E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9CC97-8AEC-4BE9-AD2E-CEE35A3C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73656-1B7B-4279-918A-9B079846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FEA20-AE43-4A3A-8E42-D9182523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412F5-DAF4-488E-87A0-DBEEBA33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7115E-5B6B-49BA-AD8E-C63AAC91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ED0D3-1232-49A1-88DF-3943818F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AC4C1-8D58-417A-98F7-9A8B1788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EF7-1415-4B27-9C8F-AE9CB7A3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A7CA8-93CF-477D-A752-D00D742D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BF310-3E25-4DD5-8802-5151A855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24F98-6FAD-4994-B7A7-8E57D8D1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6DBDE-2325-4A4D-89CE-7766D8B6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4E0E0-499E-47B1-AF2B-C26E48F4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5C9A1-3CA8-400A-9DB9-DE110103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CF424-37C2-4B58-A499-2D7F7C7D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25049-5933-4DA5-9638-2EF6D02D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D907E-6397-429C-9EB8-D3DE9293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4EEA4-D06C-4A93-9509-6F754CD1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664-8F29-455F-86F5-725FB683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D8AE1-27E3-4B77-8188-FA34F5FC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39056-915C-46C9-99F3-8E60F011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210DE-1951-48FE-90B2-2CC684AD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66413-F14B-46F5-ACDE-D2D06CDD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AE6DE-6580-41AC-970E-C5EA0311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94584-18D4-4518-BA9D-3CCC780E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3B8E4-E91B-44CD-A237-5BCA7E04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F4731-BC80-4430-8306-3572C612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11FE2-AFC2-47A2-A7DC-D385D44B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29FE5-742E-4378-8AEA-84F01199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519-1DAC-4CC3-B9EA-929C6789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9414E-455D-4187-BCD7-47E5ECB8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E6177-B5A2-48AA-B76D-DA7FD191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B1679-C7F1-40D5-9497-47F477C2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04064-DB92-4F74-B89F-54F57F2A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C2EC8-A15D-4463-B053-B555B219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86B28-38FD-40A4-9094-9890256D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2214D-5BE1-4F5A-87A9-AA3360C7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DBA37-BAA3-4A53-88AE-81847164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7BA93-F135-4F1F-9E0D-1BCA1523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9B25F-2A37-4FBC-A591-60DA923B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9B67-7BE7-46A9-8FD1-96012017E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5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5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6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9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9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9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0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0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0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1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1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1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1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2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3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3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3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3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4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4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4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5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5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5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6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6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7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A085-4F8A-470D-960C-FF34DCDCF60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2BF7-B688-4E87-BD62-4C2409FB4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9206-98D5-4DA9-914F-A5122E7EA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2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4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6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939A-F49B-4116-93CA-DD537C710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5251-4B20-4A90-85A4-3388C0737D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21C2-DC61-4C74-AE9E-2E5D04A96C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57FA-8F97-44AF-9A3C-84B22C74B1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0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4C33-F82E-4601-9B37-77E6990986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7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8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8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8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8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9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6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9A10-083D-4F94-9DF9-50EEA3EFF75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MSSN00671A0000%5B1%5D.wav" TargetMode="External"/><Relationship Id="rId3" Type="http://schemas.microsoft.com/office/2007/relationships/media" Target="file:///tmp/home/.config/libreoffice/4/user/gallery/MSSN00671A0000%5B1%5D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hanadistricts.com/news/?read=20173&amp;PHPSESSID=d601ecf12d72d95b025eb9305a73930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Ghana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Jon.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5400" y="228600"/>
            <a:ext cx="2286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3880" fill="hold"/>
                                        <p:tgtEl>
                                          <p:spTgt spid="9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Future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think it will still have a good and healthy life. Mostly because it is a better place to liv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2"/>
          <a:stretch/>
        </p:blipFill>
        <p:spPr>
          <a:xfrm>
            <a:off x="8229600" y="914400"/>
            <a:ext cx="3049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6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7893" fill="hold"/>
                                        <p:tgtEl>
                                          <p:spTgt spid="9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c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hana is located below  Burkina Faso. To the right of cote d’lvoire. To the left of  To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924360" cy="415296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3"/>
          <a:stretch/>
        </p:blipFill>
        <p:spPr>
          <a:xfrm>
            <a:off x="8610480" y="6705720"/>
            <a:ext cx="304920" cy="15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5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6556" fill="hold"/>
                                        <p:tgtEl>
                                          <p:spTgt spid="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p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5867280" y="3862440"/>
            <a:ext cx="3276720" cy="26938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28600" y="1905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Ghana’s population in 2005 was proven to be 21,946,000 people in this count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2280" y="2286000"/>
            <a:ext cx="678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3"/>
          <a:stretch/>
        </p:blipFill>
        <p:spPr>
          <a:xfrm>
            <a:off x="8381880" y="6781680"/>
            <a:ext cx="3049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6396" fill="hold"/>
                                        <p:tgtEl>
                                          <p:spTgt spid="9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hana’s 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482, the Portuguese built a castle in Elmina. Their aim was to trade in gold, ivory and slaves. In 1481 King John II of Portugal sent Diego d'Azambuja to build this cast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is is when they fist discovered Ghana and the gold co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09480" y="446076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1"/>
          <a:stretch/>
        </p:blipFill>
        <p:spPr>
          <a:xfrm>
            <a:off x="8839080" y="6629400"/>
            <a:ext cx="76320" cy="228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0" dur="20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94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94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6351" fill="hold"/>
                                        <p:tgtEl>
                                          <p:spTgt spid="9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act of Afric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 of the people of africa would be Queen Elizabeth 2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this would be important because she was the person to explore afric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1"/>
          <a:stretch/>
        </p:blipFill>
        <p:spPr>
          <a:xfrm>
            <a:off x="6477120" y="3600360"/>
            <a:ext cx="2857320" cy="3257640"/>
          </a:xfrm>
          <a:prstGeom prst="rect">
            <a:avLst/>
          </a:prstGeom>
          <a:ln w="0">
            <a:noFill/>
          </a:ln>
        </p:spPr>
      </p:pic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647712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94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4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6595" fill="hold"/>
                                        <p:tgtEl>
                                          <p:spTgt spid="9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cts of African (con’td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470 the gold coast was first seen by Portuguese. Soon after they were followed by the English in 1533 . Then the Dutch then Swedish in 100 years of 1500-1700. I think this is a good fact because it first made Ghana be s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POLITICS : It is not a debate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Some political analysts, who attended the first round of the Institute of Economic Affairs (IEA) Election 2008 Presidential Debate on Wednesday said it was more of a question an answer session than a debate.     posted: Thu, Oct 30 2008 . the kind of government is multi-party system .Legislative power is only granted on government and parliament po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7238880" y="5181480"/>
            <a:ext cx="1562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rad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hana’s best export’s coaco ,gold, timber, diamonds, and mangane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s best import’s are food and cloth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1"/>
          <a:stretch/>
        </p:blipFill>
        <p:spPr>
          <a:xfrm>
            <a:off x="4572000" y="5105520"/>
            <a:ext cx="27622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50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ltur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RELIG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60% Christian, 15% Muslim, 25% traditional African religion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hana has the highest percentage of Christians in West Africa, but the belief in traditional animist religions is still extremely common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6253200" y="5029200"/>
            <a:ext cx="2890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5:21:58Z</dcterms:created>
  <dc:creator>jonathangonzalez</dc:creator>
  <dc:description/>
  <dc:language>en-US</dc:language>
  <cp:lastModifiedBy>LCS_user</cp:lastModifiedBy>
  <dcterms:modified xsi:type="dcterms:W3CDTF">2008-11-07T16:07:46Z</dcterms:modified>
  <cp:revision>11</cp:revision>
  <dc:subject/>
  <dc:title>Ghana </dc:title>
</cp:coreProperties>
</file>